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28F-D890-4FD6-A9CF-2B01EDEAD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4C44-E843-4700-A305-F0E9B19C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8D29D-DC7C-407D-AA43-D6C3F68E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38FAC-365E-478C-9326-BD6D930D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EC024-DE97-459A-A12B-0DB98819E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0851D-BFF5-4993-BD2D-A8E2D9E8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A0482-687D-4717-89E0-4FEED561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C297B-895C-449C-ADB7-15A32E35F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D747B-3E3B-425D-8A6E-2C6EAA1F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125464-D5FE-4DC2-B62A-E7B14F5B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EB814-98E8-48C9-BCF0-EAEFFF5B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DC4-BAA5-40E4-A7BD-DEEC2B13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17EB-6A59-4B89-985A-BC8CB803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857C-39AE-4D00-9657-FBF937314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0FAE-F548-476F-907B-B0D49F7D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FC30-DB12-42FE-9E8A-24CA2430F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790A-8BD2-4CEB-A4CE-7FDCBDC9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1BDF-FFE2-4EA6-8780-4C56779A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634C-2A80-4CC8-9695-B9228CF9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EC05-4A3B-4ABD-A098-66A9D16BE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5EF-10DE-4DC3-818D-37578CC5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A553-094B-4976-A0BF-55A25109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E7BB-833F-4EDA-B18E-05BEB83F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CB81-0403-478C-8E3A-C70D6AE7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A07B4-A321-4D53-B286-748879F2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C0A6-182A-4AC6-B6A7-24C96C91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6315E-D17A-471A-886A-F1B5EEA2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152FC-F0BF-40C2-8543-D5E465C3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1227C-FA4F-44AB-9937-4186CC9A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DC9F1-AAD6-4A48-8DA2-26411049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47382-0FDA-48EA-B3F2-81175E00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C16E-A7DB-433B-AE0C-5CEACDF8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9012-9BCB-4361-A78C-43B1C04F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6BDDA-2E39-46C0-A105-8CF7F8B0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F1CEE-9BB3-493C-9410-9638767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2D04-4F41-4547-AA46-A263029E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41C40-BD1D-4726-843E-3055A544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33A3-3020-4712-BEF0-3DBD26A1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525B8-5655-45EA-A6BB-B9734D2E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6F88C-3325-4EB3-B761-BB2A6196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16C57-4985-44B3-B5B9-945A571A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A4ACB-CB8C-45B4-8367-15033A56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AF4-46C0-436C-B6F4-067C48756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F705C-574C-4B70-8C37-47263063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763EB-4221-4224-AAA9-15CB06DA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E1304-5C51-4D74-A75F-60F2D8DD2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5FA53-C282-495B-84DC-142DE425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3F16-807E-4A2C-982D-1EDD80BA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CB3E4-10BD-4674-83A1-FDE24D65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A75C-FD08-40F5-9E1A-430613C9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38798-E257-4EED-BDA7-1727767D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48936-1F64-4D49-A2B7-26490120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CFFB2-F43F-4F7A-AA3F-7F2DB5CB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4939-4E9F-4262-A322-46E07483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D212D-E97B-4032-B9F1-21292167B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E12D1-968D-401B-995E-962B236E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AB82C-6924-4AF9-BF09-07B63E3B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335C-98EF-40A8-976F-5E614432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FFA54-FC89-4C9B-BAD9-1F44F6F6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52F2E9-DEE8-49D3-9B1E-39E6611D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805C5-6452-4BEB-839E-FA3D7D1F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8C182-8FC4-4C5E-B742-06B25FD2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BFD76-12D2-48A7-A3E8-99930F81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3B61C-96A8-443E-8400-C05BE57E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2CC9-8BD5-4551-AF74-FF1F53B0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2478B-6D44-4B46-AEDF-4AAAD7511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F1E96-D2DA-42CF-A8E0-361B191A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D1186-BA70-4DF1-A325-CB893849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06322-FED5-4677-9EBE-A197A8DF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059C-B9ED-42C3-9B59-2ECE2416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820F5-575D-421C-BE8F-34EEFB87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8111F-8D3D-40C4-A637-C00BD62B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28978-083F-4D24-A721-BE1DB04B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F6A3-87C4-4820-B0F3-2582908D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7E107-BB9F-48BC-AA13-084E9D1E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21B-4A7C-4400-B89B-B9FC5858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A4896-7105-41FF-8D1D-207C95EA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35A91-4052-42A0-911E-806BB848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7549-4D0B-46CA-B129-7C8B6FD0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1E01C1-86A0-4916-9B1C-FA57666D5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70D04-0F67-403F-B4E9-FE0E3A66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D4D08-9E14-41FC-8F48-5472E6C9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98808-99E1-4F38-B225-21785066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44FC7-1622-4AEA-87FD-9709AC9C1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67BF8-B4E0-4483-BA71-AC4F79FE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6C8CE-0B47-4E2E-87C4-C6320F16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E5E7-B895-43AD-9A3A-1060E8C5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9FE0F0-A21C-4D2B-B6C4-3FAE548D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421F4-8A75-41EB-9A0B-533B577F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90EA3-6AB9-4B8C-9D88-A95D1700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7989C-6E40-4139-B5D0-17F27F79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9B9E3-048E-4F90-981F-57B88312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B54AA-53A1-4F7B-987B-4988F045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A355F-D9EE-4EC2-BE07-4E47396A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40F0F7-0DC7-4ED1-A2AE-D92052A6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0C964-81F3-4857-9372-8F3849AE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4C5AC-B3D2-4978-839A-66C51795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D29-2786-4D95-9226-3C388AE1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59365-D583-4E08-B397-F16171F1F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FB96BB-8241-4FC8-9C57-3A324B6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01393-CEAE-4692-BBC6-75FD98F0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E740D1-7F83-4C15-8A97-7347BE8B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52A84-A3E8-446F-A384-6BE89822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65AC7-4598-4760-AECF-C26F0734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89F34-930D-4F2F-AA29-510C57C2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A2DC3-74A6-4322-9E57-BB8FE07D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6C1EFE-0C71-4FBE-8A69-E6F7FE02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0A2DB-E967-4A08-9575-945F390F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7C9D-CCED-41CF-BC0F-CD657D7765E4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1019-006E-4C6A-B10B-02647F7DE96C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12C4-CBEE-4216-91FE-F4A3542E308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EBB8-A0BF-4674-BE0C-9EBBF152D13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7B6E-18D6-49D1-96BC-51D12B8AE433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9813-006E-4A16-841F-5617A82414C1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B490-7524-452B-A7C0-0C681773CA00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1B51-5BBA-4A94-B0EB-6C2F7449D79C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F8FA-91F7-4B0C-9494-82E9549BF87F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3.-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4.-FASES DE PUESTA EN MARCHA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5.-DOCUMENTACIÓN Y BIBLIOGRAFIA CONSULTADA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7.-ANEX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destinada a la ocupación del tiempo libre y la amenización de la estancia de los usuarios en los campings 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llevar a cabo todas la actividades propuestas, gestionar la empresa, adquirir materiales, buscar ayudas económicas y la publicida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1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Ante la crisis económica que estamos atravesando ir de vacaciones de camping es una de las maneras mas económicas para la socieda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El motivo por el cual nos hemos decantado por realizar este proyecto es la falta de recursos y actividades con las que cuenta el camping de Arcos de la frontera y en general todos los camping de España el cual pensamos que podríamos mejorar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2-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1.-Ofrecer un servicio de calida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2.-Elevar los niveles de afluencia de clientes a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3.-Ofrecer un servicio integr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4.-Facilitar la integración mediante actividade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5.-Fomentar hábitos de higiene y salud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6.-Respetar el entorno natural donde esta el camping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7.-Dar a conocer deportes colectivos e individuales diferentes a los habituales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8.-Inculcar a los usuarios los valores de compañerismo, amistad, respeto a sus compañeros y rivales, disciplina y juego en equip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3-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El camping “Lago de Arcos” esta situado en Arcos de la Frontera. Se encuentra situada a una altitud de 185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ros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y a 67 kilómetros de la capital de provincia,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ádiz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Se ubica en un cerro junto al río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Guadalete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. Limita al norte con los municipios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spera 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ornos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al noreste con el municipio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illamartin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al este con los municipios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l bosque 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rado del Rey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al sureste con los municipios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naocaz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Ubrique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, al sur con los municipios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lgar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y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San José del Valle</a:t>
            </a:r>
            <a:r>
              <a:rPr b="0" lang="es-ES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 y al oeste con el municipio de 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Jerez de la Frontera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4-ANALISIS DEL CONTEX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1.6-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  <p:pic>
        <p:nvPicPr>
          <p:cNvPr id="435" name="Imagen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8580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" name=""/>
          <p:cNvGraphicFramePr/>
          <p:nvPr/>
        </p:nvGraphicFramePr>
        <p:xfrm>
          <a:off x="1827360" y="2209680"/>
          <a:ext cx="5716440" cy="3897360"/>
        </p:xfrm>
        <a:graphic>
          <a:graphicData uri="http://schemas.openxmlformats.org/drawingml/2006/table">
            <a:tbl>
              <a:tblPr/>
              <a:tblGrid>
                <a:gridCol w="1357200"/>
                <a:gridCol w="1355760"/>
                <a:gridCol w="1357200"/>
                <a:gridCol w="16462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MONIT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PERF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ASIGNADO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Arial Unicode MS"/>
                        </a:rPr>
                        <a:t>PERTENECI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741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Julio Villalba Melgui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(Anexo I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Superior en Actividad Física y Animación Depor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Grupo TIEMPO LI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empresa: NATURALC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Jesús González Pér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(Anexo 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Superior en Actividad Física y Animación Depor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Grupo JÓV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empres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NATURALC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Contra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Superior en Actividad Física y Animación Depor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Grupo FAMIL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empresa: NATURALC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Contra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Superior en Educación Infant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LUDOTE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empresa: NATURALCA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Francisco Calderón Mací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Técnico en Equi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Rutas A CABA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subcontrat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Centro Híp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Mario Martín Sánche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Golf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CAMPO DE GOL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 subcontrata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Arial Unicode MS"/>
                        </a:rPr>
                        <a:t>Arcos Gard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1-RECURSOS 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2-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3-RECURSOS ECONÓMIC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18T10:19:19Z</dcterms:modified>
  <cp:revision>20</cp:revision>
  <dc:subject/>
  <dc:title>NATURALCAMP</dc:title>
</cp:coreProperties>
</file>